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37F-7DC8-4B35-A639-90227332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15C-DD66-4421-8A39-FF6A0A69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9B2-411D-4061-A655-1C5B063B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293-64E5-4A92-BE66-3A36191B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CCE9-8983-4B1D-B2A7-E1A79511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7777-D634-488D-A209-C01684A1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A5F1-36CD-407A-86AC-7FEB4F63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79F5-F748-41E1-8DCA-5985CBC3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D801-BDB5-4E54-8307-9E242246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296D-BD90-4216-9401-797CFF5D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FA25-AF8B-405F-9C7D-127F1CD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6D7-6EE0-41E4-AFF2-0D8F029A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C7DD-2CAC-417A-B7A0-737651F1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A8C8-877C-4707-ACFD-4D7F020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FF0C-6A4D-442B-94DC-1AB84F2F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97E6-736E-4D94-8E99-13872C0C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B202-557D-4201-9436-B0FBC60D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C15-3F40-41E8-BC64-6C7BEC18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568-6A4C-4D4C-9C91-360060ED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A11-E8CF-4442-A32A-4A5A7E10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06A-7B77-4AB5-818A-BE12E04E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67B-C512-4834-8672-F65259A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DD3-8661-437E-99F3-5DE78BF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194-9065-48B1-B4B6-22665605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1E76-7D28-47D6-A1BD-6185B84CC5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2AB7-E924-4E17-9A45-F3F71D1BF3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етодические требования к современному урок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илмуллина Чулпан Зулфатовна, заместитель директора по учебной работе МБОУ «Сафаровская СОШ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i-main-pic" descr="Картинка 9 из 146"/>
          <p:cNvPicPr/>
          <p:nvPr/>
        </p:nvPicPr>
        <p:blipFill>
          <a:blip r:embed="rId1"/>
          <a:stretch/>
        </p:blipFill>
        <p:spPr>
          <a:xfrm>
            <a:off x="2916360" y="5006880"/>
            <a:ext cx="251928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48836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Требования предъявляемые к современному уроку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856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рошо организованный урок  в хорошо оборудованном кабинете должен иметь хорошее начало и хорошее оконча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должен спланировать свою деятельность и деятельность учащихся, четко сформулировать тему, цель, задачи урок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ок должен быть проблемным и развивающим: учитель сам нацеливается на сотрудничество с учениками и умеет направлять учеников на сотрудничество с учителем и одноклассника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организует проблемные и поисковые ситуации, активизирует деятельность учащих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вод делают сами учащиес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инимум репродукции и максимум творчества и сотворче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ремясбережение и здоровьесбережени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центре внимания урока - дет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уровня и возможностей учащихся, в котором учтены  такие аспекты, как профиль класса, стремление учащихся, настроение дете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мение демонстрировать методическое искусство учител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ланирование обратной связ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ок должен быть добр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7885080" y="260280"/>
            <a:ext cx="10857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я к современному уроку по 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рок обязан иметь личностно-ориентированный, индивидуальный характе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иоритете самостоятельная работа учеников, а не учител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ется практический, деятельностный подх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ждый урок направлен на развитие универсальных учебных действий (УУД): личностных, коммуникативных, регулятивных и познавательн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вторитарный стиль общения между учеником и учителем уходит в прошлое. Теперь задача учителя — помогать в освоении новых знаний и направлять учебный процес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rcRect l="38399" t="10325" r="23203" b="8696"/>
          <a:stretch/>
        </p:blipFill>
        <p:spPr>
          <a:xfrm>
            <a:off x="2050920" y="333360"/>
            <a:ext cx="499752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САМОАНАЛИЗ УРОК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 самоанализе урока преподаватель  дает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•       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ткую характеристику целям, которые ставил и анализирует их достижение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•       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нформацию об объеме материала и качестве его усвоения учащимися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•       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арактеристику применяемых методов работы с учащимися и оценивает их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•       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ценку активности учащихся и обосновывает использованные приемы организации их труд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•        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ооценку отдельных аспектов своей деятельности (речь, логика, характер отношений с ученикам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заключении преподаватель высказывает свои предложения по улучшению качества урока и намечает меры по совершенствованию своего педагогического мастер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532720" cy="89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СПАСИБО ЗА  ВНИМАНИЕ!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              ИНТЕРЕСНЫХ УРОКОВ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Урок – клеточка педагогического процесса. В нем, как солнце в капле воды, отражаются все его стороны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Если не вся, то значительная часть педагогики концентрируется в уроке.               Скаткин 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155520" y="46080"/>
            <a:ext cx="1505160" cy="179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http://gorkschool.ucoz.ru/Imidg/VGOS_MAT.png"/>
          <p:cNvPicPr/>
          <p:nvPr/>
        </p:nvPicPr>
        <p:blipFill>
          <a:blip r:embed="rId2"/>
          <a:srcRect l="0" t="0" r="41181" b="9377"/>
          <a:stretch/>
        </p:blipFill>
        <p:spPr>
          <a:xfrm>
            <a:off x="4572000" y="1413000"/>
            <a:ext cx="42181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Федеральный Государственный Образовательный Стандарт (ФГОС) во главу угла ставит развитие личности ребенка. Данная задача требует от учителя нового подхода к организации процесса обучения. Урок, как и было раньше, остается основной единицей обучающего процесса. Но теперь изменились требования к проведению урока, предложена другая классификация уроков. Специфика системно-деятельностного подхода предполагает и другую структуру урока, которая отличается от привычной, классической схемы. Рассмотрим, какие типы уроков по ФГОС предложены в методике, в чем их предназначение и какие виды и формы предлагают нам новые требования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Основные типы уроков в школе по ФГО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ые образовательные стандарты предлагают выделять четыре основных типа уроков в зависимости от поставленных целе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ип №1. Урок открытия новых знаний, обретения новых умений и навы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ип №2. Урок рефлекс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ип №3. Урок систематизации знан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ип №4. Урок развивающего контро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 №1. Урок открытия новых знаний, обретения новых умений и навы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628640"/>
            <a:ext cx="903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ли: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Деятельностна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научить детей новым способам нахождения знания, ввести новые понятия, термины.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Содержательная: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сформировать систему новых понятий, расширить знания учеников за счет включения новых определений, терминов, описа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а урока обретения новых зна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тивационный эта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ап актуализации знаний по предложенной теме и осуществление первого пробного действ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явление затруднения: в чем сложность нового материала, что именно создает проблему, поиск противореч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проекта, плана по выходу их создавшегося затруднения, рассмотрения множества вариантов, поиск оптимального реш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ализация выбранного плана по разрешению затруднения. Это главный этап урока, на котором и происходит "открытие" нового зн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ервичное закрепление нового зн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остоятельная работа и проверка по этало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ключение в систему знаний и ум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флексия, включающая в себя и рефлексию учебной деятельности, и самоанализ, и рефлексию чувств и эмоц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08600" indent="-4086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 №2. Урок рефлекс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628640"/>
            <a:ext cx="896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ли: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Деятельностна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формировать у учеников способность к рефлексии коррекционно-контрольного типа, научить детей находить причину своих затруднений, самостоятельно строить алгоритм действий по устранению затруднений, научить самоанализу действий и способам нахождения разрешения конфликта.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Содержательна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закрепить усвоенные знания, понятия, способы действия и скорректировать при необходим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а урока-рефлексии по ФГОС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тивационный этап. Актуализация знаний и осуществление первичного действ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явление индивидуальных затруднений в реализации нового знания и ум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троение плана по разрешению возникших затруднений (поиск способов разрешения проблемы, выбор оптимальных действий, планирование работы, выработка стратегии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ализация на практике выбранного плана, стратегии по разрешению проблемы. Обобщение выявленных затрудн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ение самостоятельной работы и самопроверки по эталонному образцу. Включение в систему знаний и ум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ение рефлекси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 №3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рок систематизации зна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л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Деятельностная: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научить детей структуризации полученного знания, развивать умение перехода от частного к общему и наоборот, научить видеть каждое новое знание, изученный способ действий в рамках всей изучаемой тем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Содержательная: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научить обобщению, развивать умение строить теоретические предположения о дальнейшем развитии темы, научить видению нового знания в структуре общего курса, его связь с уже приобретенным опытом и его значение для последующего обуч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а урока систематизации знани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амоопределе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туализация знаний и фиксирование затрудн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становка учебной задачи, целей уро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ставление плана, стратегии по разрешению затрудн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ализация выбранного проект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ап самостоятельной работы с проверкой по этало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ап рефлексии дея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2640" indent="-42264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ип №4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рок развивающего контро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Цел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Деятельностна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: научить детей способам самоконтроля и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взаимоконтрол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формировать способности, позволяющие осуществлять контрол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Содержательная: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проверка знания, умений, приобретенных навыков и самопроверка ученико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труктура урока развивающего контрол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тивационный этап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ктуализация знаний и осуществление пробного действ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иксирование локальных затрудн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здание плана по решению проблем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ализация на практике выбранного план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общение видов затруднени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уществление самостоятельной работы и самопроверки с использованием эталонного образц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шение задач творческого уровн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ефлексия деятельност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ы уроков для каждого типа урока по 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2160" y="1557360"/>
          <a:ext cx="9051840" cy="4878360"/>
        </p:xfrm>
        <a:graphic>
          <a:graphicData uri="http://schemas.openxmlformats.org/drawingml/2006/table">
            <a:tbl>
              <a:tblPr/>
              <a:tblGrid>
                <a:gridCol w="546120"/>
                <a:gridCol w="3076560"/>
                <a:gridCol w="5429160"/>
              </a:tblGrid>
              <a:tr h="47160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ип урока по ФГ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иды уро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</a:tr>
              <a:tr h="131112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 открытия нового зн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екция, путешествие, инсценировка, экспедиция, проблемный урок, экскурсия, беседа, конференция, мультимедиа-урок, игра, уроки смешанного тип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75240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 рефлек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чинение, практикум, диалог, ролевая игра, деловая игра, комбинированный ур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  <a:tr h="131148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 общеметодологической направ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курс, конференция, экскурсия, консультация, урок-игра, диспут, обсуждение, обзорная лекция, беседа, урок-суд, урок-откровение, урок-совершенствова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4e9"/>
                    </a:solidFill>
                  </a:tcPr>
                </a:tc>
              </a:tr>
              <a:tr h="1031760"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b2c1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рок развивающего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  <a:tc>
                  <a:txBody>
                    <a:bodyPr lIns="95400" rIns="95400" tIns="95400" bIns="954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исьменные работы, устные опросы, викторина, смотр знаний, творческий отчет, защита проектов, рефератов, тестирование, конкурс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5400" marR="9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2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юансы построения уроков по ФГОС в начальной и средней школ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уктура ФГОС вводит новое понятие — 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"учебная ситуация"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 То есть учитель должен теперь не преподносить готовое знание, а строить на уроках такую ситуацию, в ходе которой дети сами учатся находить предмет изучения, исследовать его, сравнивать с уже имеющимся опытом, формулировать собственное описани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здание учебной ситуации строится с учетом возрастных и психологических особенностей учеников, степени сформированности их УУД, специфики учебного заведе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, если в старших классах можно оперировать уже накопленными знаниями, то в начальной школе учебные ситуации строятся на основе наблюдений, житейского опыта, эмоционального восприят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им образом, уроки в свете требований ФГОС предполагают основательную реконструкцию учебного процесса. Изменились требования не только к содержанию учебного процесса, но и к результатам образования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8:40:05Z</dcterms:created>
  <dc:creator>Марина</dc:creator>
  <dc:description/>
  <dc:language>en-US</dc:language>
  <cp:lastModifiedBy>Чулпан Гилмуллина</cp:lastModifiedBy>
  <dcterms:modified xsi:type="dcterms:W3CDTF">2017-08-19T17:25:22Z</dcterms:modified>
  <cp:revision>19</cp:revision>
  <dc:subject/>
  <dc:title>ФГОС  в начальной школе</dc:title>
</cp:coreProperties>
</file>